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1.gif" ContentType="image/gif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4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175B-6B2A-4D6D-8100-B33738B3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5776-1BD8-4F44-8CB8-DF66257D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FAA1-22EC-49D2-8F3A-420B25DB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0978-F94B-453D-BCD9-477E04FA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5AD1-E95C-4165-A00A-BAB05B0F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BDD7-F604-4F64-A7DA-EFBFE1C5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889C-BF88-4235-A16F-B6548765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5BD-D89F-473C-93CB-3047205F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A92-6C8B-4BDD-86A7-2B12FC7B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649-0A29-4B13-B22D-F9835576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C6F-ADD9-4184-B5EA-D1EB9B2A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B4E2-940D-442A-844E-5029A1E8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9F05D-EFA8-405C-82DE-316E54E441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9360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2   School in Ca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91960" y="3129840"/>
            <a:ext cx="1019160" cy="110304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693880" y="3970440"/>
            <a:ext cx="617724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17"/>
          <p:cNvSpPr/>
          <p:nvPr/>
        </p:nvSpPr>
        <p:spPr>
          <a:xfrm>
            <a:off x="2798640" y="1374840"/>
            <a:ext cx="60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单数变复数的规则（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1146240" y="2146320"/>
            <a:ext cx="716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结尾的名词变复数时，一般直接在词尾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读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ɪz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ish — dishes / dɪʃɪz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盘子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atch — watches / wɒtʃɪz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手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us — buses / bʌsɪz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公共汽车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x — boxes / bɒksɪz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盒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圆角矩形 16"/>
          <p:cNvSpPr/>
          <p:nvPr/>
        </p:nvSpPr>
        <p:spPr>
          <a:xfrm>
            <a:off x="973080" y="14763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9"/>
          <p:cNvSpPr/>
          <p:nvPr/>
        </p:nvSpPr>
        <p:spPr>
          <a:xfrm>
            <a:off x="1297080" y="1467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9" descr="book.gif"/>
          <p:cNvPicPr/>
          <p:nvPr/>
        </p:nvPicPr>
        <p:blipFill>
          <a:blip r:embed="rId2"/>
          <a:stretch/>
        </p:blipFill>
        <p:spPr>
          <a:xfrm>
            <a:off x="231840" y="1349280"/>
            <a:ext cx="108720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文本框 8" descr=""/>
          <p:cNvPicPr/>
          <p:nvPr/>
        </p:nvPicPr>
        <p:blipFill>
          <a:blip r:embed="rId1"/>
          <a:stretch/>
        </p:blipFill>
        <p:spPr>
          <a:xfrm>
            <a:off x="1873080" y="252360"/>
            <a:ext cx="5616720" cy="5223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819000" y="1235160"/>
            <a:ext cx="77425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e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you see an s or an es in these words? Yes!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866880" y="4303800"/>
            <a:ext cx="33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are many tomat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6"/>
          <p:cNvSpPr/>
          <p:nvPr/>
        </p:nvSpPr>
        <p:spPr>
          <a:xfrm>
            <a:off x="6121440" y="4314960"/>
            <a:ext cx="31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are many pho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1023840" y="1555920"/>
            <a:ext cx="2121120" cy="1076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3"/>
          <a:stretch/>
        </p:blipFill>
        <p:spPr>
          <a:xfrm>
            <a:off x="1023840" y="3139920"/>
            <a:ext cx="2192400" cy="1086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4"/>
          <a:stretch/>
        </p:blipFill>
        <p:spPr>
          <a:xfrm>
            <a:off x="3429000" y="1542960"/>
            <a:ext cx="2193840" cy="1089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5"/>
          <a:stretch/>
        </p:blipFill>
        <p:spPr>
          <a:xfrm>
            <a:off x="3473280" y="3098880"/>
            <a:ext cx="2149560" cy="1089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6"/>
          <a:stretch/>
        </p:blipFill>
        <p:spPr>
          <a:xfrm>
            <a:off x="6000840" y="1517760"/>
            <a:ext cx="1793880" cy="1114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7"/>
          <a:stretch/>
        </p:blipFill>
        <p:spPr>
          <a:xfrm>
            <a:off x="6000840" y="3117960"/>
            <a:ext cx="1766880" cy="1090440"/>
          </a:xfrm>
          <a:prstGeom prst="rect">
            <a:avLst/>
          </a:prstGeom>
          <a:ln w="0">
            <a:noFill/>
          </a:ln>
        </p:spPr>
      </p:pic>
      <p:sp>
        <p:nvSpPr>
          <p:cNvPr id="149" name="矩形 22"/>
          <p:cNvSpPr/>
          <p:nvPr/>
        </p:nvSpPr>
        <p:spPr>
          <a:xfrm>
            <a:off x="974880" y="2664000"/>
            <a:ext cx="26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toma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3"/>
          <p:cNvSpPr/>
          <p:nvPr/>
        </p:nvSpPr>
        <p:spPr>
          <a:xfrm>
            <a:off x="5969160" y="2671920"/>
            <a:ext cx="26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pho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4"/>
          <p:cNvSpPr/>
          <p:nvPr/>
        </p:nvSpPr>
        <p:spPr>
          <a:xfrm>
            <a:off x="3460680" y="265896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pota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5"/>
          <p:cNvSpPr/>
          <p:nvPr/>
        </p:nvSpPr>
        <p:spPr>
          <a:xfrm>
            <a:off x="3510000" y="4314960"/>
            <a:ext cx="33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are many potat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54" name="文本框 17"/>
          <p:cNvSpPr/>
          <p:nvPr/>
        </p:nvSpPr>
        <p:spPr>
          <a:xfrm>
            <a:off x="2752560" y="1406520"/>
            <a:ext cx="6016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单数变复数的规则（三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1146240" y="2146320"/>
            <a:ext cx="74293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以辅音字母加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o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结尾的名词变复数，一般在词尾加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e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，读为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/z/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photo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一个例外，其复数形式是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photo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。如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tomato — tomatoes /tə mɑːtəʊz/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西红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potato — potatoes /pə teɪtəʊz/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土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以元音字母加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o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结尾的名词变复数，一般在词尾加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。如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radio — radios / reɪdiəʊz/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收音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zoo — zoos /zuːz/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动物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16"/>
          <p:cNvSpPr/>
          <p:nvPr/>
        </p:nvSpPr>
        <p:spPr>
          <a:xfrm>
            <a:off x="973080" y="14763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9"/>
          <p:cNvSpPr/>
          <p:nvPr/>
        </p:nvSpPr>
        <p:spPr>
          <a:xfrm>
            <a:off x="1297080" y="1498680"/>
            <a:ext cx="143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9" descr="book.gif"/>
          <p:cNvPicPr/>
          <p:nvPr/>
        </p:nvPicPr>
        <p:blipFill>
          <a:blip r:embed="rId2"/>
          <a:stretch/>
        </p:blipFill>
        <p:spPr>
          <a:xfrm>
            <a:off x="231840" y="1349280"/>
            <a:ext cx="108720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文本框 8" descr=""/>
          <p:cNvPicPr/>
          <p:nvPr/>
        </p:nvPicPr>
        <p:blipFill>
          <a:blip r:embed="rId1"/>
          <a:stretch/>
        </p:blipFill>
        <p:spPr>
          <a:xfrm>
            <a:off x="1941480" y="252360"/>
            <a:ext cx="5488200" cy="5842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"/>
          <p:cNvSpPr/>
          <p:nvPr/>
        </p:nvSpPr>
        <p:spPr>
          <a:xfrm>
            <a:off x="819000" y="1235160"/>
            <a:ext cx="77425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e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you see an s or an es in these words? No!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"/>
          <p:cNvSpPr/>
          <p:nvPr/>
        </p:nvSpPr>
        <p:spPr>
          <a:xfrm>
            <a:off x="866880" y="4476600"/>
            <a:ext cx="33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men are yo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6"/>
          <p:cNvSpPr/>
          <p:nvPr/>
        </p:nvSpPr>
        <p:spPr>
          <a:xfrm>
            <a:off x="6121440" y="4487760"/>
            <a:ext cx="31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children are pla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2"/>
          <p:cNvSpPr/>
          <p:nvPr/>
        </p:nvSpPr>
        <p:spPr>
          <a:xfrm>
            <a:off x="974880" y="2664000"/>
            <a:ext cx="26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an is ol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3"/>
          <p:cNvSpPr/>
          <p:nvPr/>
        </p:nvSpPr>
        <p:spPr>
          <a:xfrm>
            <a:off x="5969160" y="2671920"/>
            <a:ext cx="26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hild is walk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4"/>
          <p:cNvSpPr/>
          <p:nvPr/>
        </p:nvSpPr>
        <p:spPr>
          <a:xfrm>
            <a:off x="3382920" y="2658960"/>
            <a:ext cx="26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woman is danc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5"/>
          <p:cNvSpPr/>
          <p:nvPr/>
        </p:nvSpPr>
        <p:spPr>
          <a:xfrm>
            <a:off x="3382920" y="4487760"/>
            <a:ext cx="33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women are sin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955800" y="1270080"/>
            <a:ext cx="2066760" cy="1342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974880" y="3110040"/>
            <a:ext cx="2028600" cy="1323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4"/>
          <a:stretch/>
        </p:blipFill>
        <p:spPr>
          <a:xfrm>
            <a:off x="3460680" y="1287360"/>
            <a:ext cx="2028960" cy="1352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5"/>
          <a:stretch/>
        </p:blipFill>
        <p:spPr>
          <a:xfrm>
            <a:off x="3489480" y="3110040"/>
            <a:ext cx="2028600" cy="1333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6"/>
          <a:stretch/>
        </p:blipFill>
        <p:spPr>
          <a:xfrm>
            <a:off x="5969160" y="1341360"/>
            <a:ext cx="1958760" cy="1292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7"/>
          <a:stretch/>
        </p:blipFill>
        <p:spPr>
          <a:xfrm>
            <a:off x="5986440" y="3090960"/>
            <a:ext cx="2009880" cy="1334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8"/>
          <a:stretch/>
        </p:blipFill>
        <p:spPr>
          <a:xfrm>
            <a:off x="6753240" y="4876920"/>
            <a:ext cx="143820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17"/>
          <p:cNvSpPr/>
          <p:nvPr/>
        </p:nvSpPr>
        <p:spPr>
          <a:xfrm>
            <a:off x="2452680" y="1284120"/>
            <a:ext cx="3852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单数变复数的不规则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圆角矩形 18"/>
          <p:cNvSpPr/>
          <p:nvPr/>
        </p:nvSpPr>
        <p:spPr>
          <a:xfrm>
            <a:off x="631800" y="13431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9"/>
          <p:cNvSpPr/>
          <p:nvPr/>
        </p:nvSpPr>
        <p:spPr>
          <a:xfrm>
            <a:off x="1117440" y="134460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768240" y="1822320"/>
            <a:ext cx="8278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上文中出现的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omen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hildren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属于不规则的名词复数变化形式。在英语学习过程中，还有一些类似的情况，我们一起来看看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9" descr="book.gif"/>
          <p:cNvPicPr/>
          <p:nvPr/>
        </p:nvPicPr>
        <p:blipFill>
          <a:blip r:embed="rId2"/>
          <a:stretch/>
        </p:blipFill>
        <p:spPr>
          <a:xfrm>
            <a:off x="58680" y="1235160"/>
            <a:ext cx="108756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879480" y="2881440"/>
          <a:ext cx="7991640" cy="3382920"/>
        </p:xfrm>
        <a:graphic>
          <a:graphicData uri="http://schemas.openxmlformats.org/drawingml/2006/table">
            <a:tbl>
              <a:tblPr/>
              <a:tblGrid>
                <a:gridCol w="1917720"/>
                <a:gridCol w="607392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构成法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例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单复数同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heep—sheep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绵羊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deer—deer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鹿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hinese—Chinese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中国人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Japanese—Japanese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日本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变内部元音：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变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e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oo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an—me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男人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foot—feet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脚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ooth—teeth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牙齿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oose—geese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词尾发生变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hild—children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孩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一些名词只有复数形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pants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短裤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cissors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剪刀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horts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短裤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lasses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眼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8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1"/>
          <p:cNvGrpSpPr/>
          <p:nvPr/>
        </p:nvGrpSpPr>
        <p:grpSpPr>
          <a:xfrm>
            <a:off x="603360" y="1473120"/>
            <a:ext cx="1806480" cy="1514520"/>
            <a:chOff x="603360" y="1473120"/>
            <a:chExt cx="1806480" cy="1514520"/>
          </a:xfrm>
        </p:grpSpPr>
        <p:pic>
          <p:nvPicPr>
            <p:cNvPr id="189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603360" y="1473120"/>
              <a:ext cx="180648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文本框 2"/>
            <p:cNvSpPr/>
            <p:nvPr/>
          </p:nvSpPr>
          <p:spPr>
            <a:xfrm>
              <a:off x="1109880" y="179496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2"/>
          <p:cNvSpPr/>
          <p:nvPr/>
        </p:nvSpPr>
        <p:spPr>
          <a:xfrm>
            <a:off x="2151000" y="3035160"/>
            <a:ext cx="642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一些以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oman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结尾的词，变复数形式时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n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oman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单数变复数的变化形式相同。如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oliceman — policemen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警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9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2313000" y="1714680"/>
            <a:ext cx="5448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单数变复数，规则要记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特殊有几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结尾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离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末尾字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大多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人有两菜， 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离口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词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前有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没有规则词，必须单独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2"/>
          <p:cNvGrpSpPr/>
          <p:nvPr/>
        </p:nvGrpSpPr>
        <p:grpSpPr>
          <a:xfrm>
            <a:off x="582480" y="1835280"/>
            <a:ext cx="2340000" cy="459720"/>
            <a:chOff x="582480" y="1835280"/>
            <a:chExt cx="2340000" cy="459720"/>
          </a:xfrm>
        </p:grpSpPr>
        <p:sp>
          <p:nvSpPr>
            <p:cNvPr id="197" name="TextBox 10"/>
            <p:cNvSpPr/>
            <p:nvPr/>
          </p:nvSpPr>
          <p:spPr>
            <a:xfrm>
              <a:off x="834480" y="183528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582480" y="187200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"/>
          <p:cNvSpPr/>
          <p:nvPr/>
        </p:nvSpPr>
        <p:spPr>
          <a:xfrm>
            <a:off x="657360" y="128916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vegetables do you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potatos         B. tomatos         C. toma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 are many ________ on th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photos          B. photo             C. pho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grandpa wants to buy three 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radioes          B. radios           C.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202" name="矩形 21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矩形 2"/>
          <p:cNvSpPr/>
          <p:nvPr/>
        </p:nvSpPr>
        <p:spPr>
          <a:xfrm>
            <a:off x="3037320" y="251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3"/>
          <p:cNvSpPr/>
          <p:nvPr/>
        </p:nvSpPr>
        <p:spPr>
          <a:xfrm>
            <a:off x="4110480" y="362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4"/>
          <p:cNvSpPr/>
          <p:nvPr/>
        </p:nvSpPr>
        <p:spPr>
          <a:xfrm>
            <a:off x="6159960" y="473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716040" y="1141560"/>
            <a:ext cx="8045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用所给词的适当形式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 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very lo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has three _________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or her m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ive 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reading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see some 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m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alking happily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many 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210" name="矩形 25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矩形 2"/>
          <p:cNvSpPr/>
          <p:nvPr/>
        </p:nvSpPr>
        <p:spPr>
          <a:xfrm>
            <a:off x="2638080" y="21528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3683520" y="28764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4"/>
          <p:cNvSpPr/>
          <p:nvPr/>
        </p:nvSpPr>
        <p:spPr>
          <a:xfrm>
            <a:off x="2505600" y="3573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3122280" y="43210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6"/>
          <p:cNvSpPr/>
          <p:nvPr/>
        </p:nvSpPr>
        <p:spPr>
          <a:xfrm>
            <a:off x="3377880" y="57704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3"/>
          <p:cNvSpPr/>
          <p:nvPr/>
        </p:nvSpPr>
        <p:spPr>
          <a:xfrm>
            <a:off x="1009800" y="1174680"/>
            <a:ext cx="713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1033560" y="2774880"/>
            <a:ext cx="7637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ind,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n you find the differ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one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 are many penc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2394000" y="5037120"/>
            <a:ext cx="56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find the differen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1" descr=""/>
          <p:cNvPicPr/>
          <p:nvPr/>
        </p:nvPicPr>
        <p:blipFill>
          <a:blip r:embed="rId2"/>
          <a:stretch/>
        </p:blipFill>
        <p:spPr>
          <a:xfrm>
            <a:off x="2033640" y="1320840"/>
            <a:ext cx="5060880" cy="37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23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25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文本框 8" descr=""/>
          <p:cNvPicPr/>
          <p:nvPr/>
        </p:nvPicPr>
        <p:blipFill>
          <a:blip r:embed="rId1"/>
          <a:stretch/>
        </p:blipFill>
        <p:spPr>
          <a:xfrm>
            <a:off x="2076480" y="244440"/>
            <a:ext cx="5259240" cy="71424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819000" y="1346040"/>
            <a:ext cx="774252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. Woo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find the differ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nn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words have no s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"/>
          <p:cNvPicPr/>
          <p:nvPr/>
        </p:nvPicPr>
        <p:blipFill>
          <a:blip r:embed="rId2"/>
          <a:stretch/>
        </p:blipFill>
        <p:spPr>
          <a:xfrm>
            <a:off x="1019160" y="2355840"/>
            <a:ext cx="2795760" cy="1433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3973680" y="2305080"/>
            <a:ext cx="2957400" cy="1484280"/>
          </a:xfrm>
          <a:prstGeom prst="rect">
            <a:avLst/>
          </a:prstGeom>
          <a:ln w="0">
            <a:noFill/>
          </a:ln>
        </p:spPr>
      </p:pic>
      <p:sp>
        <p:nvSpPr>
          <p:cNvPr id="68" name="矩形 1"/>
          <p:cNvSpPr/>
          <p:nvPr/>
        </p:nvSpPr>
        <p:spPr>
          <a:xfrm>
            <a:off x="1211400" y="384660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one penc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C:\Users\Administrator\Desktop\英有六J课件资料\冀教6英语资料\小动画和图片\Unit 2 图片\017.jpg"/>
          <p:cNvPicPr/>
          <p:nvPr/>
        </p:nvPicPr>
        <p:blipFill>
          <a:blip r:embed="rId4"/>
          <a:stretch/>
        </p:blipFill>
        <p:spPr>
          <a:xfrm>
            <a:off x="5730840" y="4165560"/>
            <a:ext cx="2540160" cy="1905120"/>
          </a:xfrm>
          <a:prstGeom prst="rect">
            <a:avLst/>
          </a:prstGeom>
          <a:ln w="0">
            <a:noFill/>
          </a:ln>
        </p:spPr>
      </p:pic>
      <p:sp>
        <p:nvSpPr>
          <p:cNvPr id="70" name="矩形 14"/>
          <p:cNvSpPr/>
          <p:nvPr/>
        </p:nvSpPr>
        <p:spPr>
          <a:xfrm>
            <a:off x="4518000" y="3841920"/>
            <a:ext cx="26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cha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"/>
          <p:cNvPicPr/>
          <p:nvPr/>
        </p:nvPicPr>
        <p:blipFill>
          <a:blip r:embed="rId5"/>
          <a:stretch/>
        </p:blipFill>
        <p:spPr>
          <a:xfrm>
            <a:off x="6964200" y="1119240"/>
            <a:ext cx="191484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文本框 8" descr=""/>
          <p:cNvPicPr/>
          <p:nvPr/>
        </p:nvPicPr>
        <p:blipFill>
          <a:blip r:embed="rId1"/>
          <a:stretch/>
        </p:blipFill>
        <p:spPr>
          <a:xfrm>
            <a:off x="2076480" y="244440"/>
            <a:ext cx="5259240" cy="71424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819000" y="1235160"/>
            <a:ext cx="7742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mi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words have an s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"/>
          <p:cNvSpPr/>
          <p:nvPr/>
        </p:nvSpPr>
        <p:spPr>
          <a:xfrm>
            <a:off x="1211400" y="373680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many penc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6"/>
          <p:cNvSpPr/>
          <p:nvPr/>
        </p:nvSpPr>
        <p:spPr>
          <a:xfrm>
            <a:off x="4738680" y="3746520"/>
            <a:ext cx="31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many chai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4572000" y="1793880"/>
            <a:ext cx="3067200" cy="1523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1163520" y="1841400"/>
            <a:ext cx="3038760" cy="150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5819760" y="4183200"/>
            <a:ext cx="1257480" cy="197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17"/>
          <p:cNvSpPr/>
          <p:nvPr/>
        </p:nvSpPr>
        <p:spPr>
          <a:xfrm>
            <a:off x="3113280" y="1550880"/>
            <a:ext cx="41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ifference / dɪfrəns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差异；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18"/>
          <p:cNvSpPr/>
          <p:nvPr/>
        </p:nvSpPr>
        <p:spPr>
          <a:xfrm>
            <a:off x="973080" y="16542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9"/>
          <p:cNvSpPr/>
          <p:nvPr/>
        </p:nvSpPr>
        <p:spPr>
          <a:xfrm>
            <a:off x="1297080" y="16444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2295360" y="2176560"/>
            <a:ext cx="623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 are many differences between the two tree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两棵树之间有许多不同之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9" descr="book.gif"/>
          <p:cNvPicPr/>
          <p:nvPr/>
        </p:nvPicPr>
        <p:blipFill>
          <a:blip r:embed="rId2"/>
          <a:stretch/>
        </p:blipFill>
        <p:spPr>
          <a:xfrm>
            <a:off x="231840" y="152712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87" name="矩形 1"/>
          <p:cNvSpPr/>
          <p:nvPr/>
        </p:nvSpPr>
        <p:spPr>
          <a:xfrm>
            <a:off x="1501200" y="2427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"/>
          <p:cNvSpPr/>
          <p:nvPr/>
        </p:nvSpPr>
        <p:spPr>
          <a:xfrm>
            <a:off x="1526760" y="3946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复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"/>
          <p:cNvSpPr/>
          <p:nvPr/>
        </p:nvSpPr>
        <p:spPr>
          <a:xfrm>
            <a:off x="2317680" y="369720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18" descr=""/>
          <p:cNvPicPr/>
          <p:nvPr/>
        </p:nvPicPr>
        <p:blipFill>
          <a:blip r:embed="rId3"/>
          <a:stretch/>
        </p:blipFill>
        <p:spPr>
          <a:xfrm>
            <a:off x="1036800" y="4933800"/>
            <a:ext cx="32544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矩形 16"/>
          <p:cNvSpPr/>
          <p:nvPr/>
        </p:nvSpPr>
        <p:spPr>
          <a:xfrm>
            <a:off x="1423800" y="47721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2301840" y="4761000"/>
            <a:ext cx="35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iffer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j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不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7"/>
          <p:cNvSpPr/>
          <p:nvPr/>
        </p:nvSpPr>
        <p:spPr>
          <a:xfrm>
            <a:off x="3499920" y="1741320"/>
            <a:ext cx="425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ord / wɜːd/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单词；字；话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18"/>
          <p:cNvSpPr/>
          <p:nvPr/>
        </p:nvSpPr>
        <p:spPr>
          <a:xfrm>
            <a:off x="973080" y="184464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9"/>
          <p:cNvSpPr/>
          <p:nvPr/>
        </p:nvSpPr>
        <p:spPr>
          <a:xfrm>
            <a:off x="1297080" y="18352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2295360" y="2367000"/>
            <a:ext cx="62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know the three word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认识这三个单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9" descr="book.gif"/>
          <p:cNvPicPr/>
          <p:nvPr/>
        </p:nvPicPr>
        <p:blipFill>
          <a:blip r:embed="rId2"/>
          <a:stretch/>
        </p:blipFill>
        <p:spPr>
          <a:xfrm>
            <a:off x="231840" y="171756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101" name="矩形 1"/>
          <p:cNvSpPr/>
          <p:nvPr/>
        </p:nvSpPr>
        <p:spPr>
          <a:xfrm>
            <a:off x="1501200" y="2617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1526760" y="3427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复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2317680" y="317808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"/>
          <p:cNvSpPr/>
          <p:nvPr/>
        </p:nvSpPr>
        <p:spPr>
          <a:xfrm>
            <a:off x="1520280" y="4195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"/>
          <p:cNvSpPr/>
          <p:nvPr/>
        </p:nvSpPr>
        <p:spPr>
          <a:xfrm>
            <a:off x="2313000" y="3946680"/>
            <a:ext cx="621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word li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单词表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n a wo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总而言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1294560" y="499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形近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2306520" y="4745160"/>
            <a:ext cx="62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rl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世界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r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./v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17"/>
          <p:cNvSpPr/>
          <p:nvPr/>
        </p:nvSpPr>
        <p:spPr>
          <a:xfrm>
            <a:off x="2562120" y="1442880"/>
            <a:ext cx="41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单数变复数的规则（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18"/>
          <p:cNvSpPr/>
          <p:nvPr/>
        </p:nvSpPr>
        <p:spPr>
          <a:xfrm>
            <a:off x="700200" y="15606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9"/>
          <p:cNvSpPr/>
          <p:nvPr/>
        </p:nvSpPr>
        <p:spPr>
          <a:xfrm>
            <a:off x="1049400" y="152100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928800" y="2151000"/>
            <a:ext cx="762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名词一般分为可数名词和不可数名词。可以用数量来计算的单词叫可数名词。可数名词有单数和复数两种形式，表示一个用单数，表示两个及两个以上用复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up — cu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杯子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r — car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汽车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ar — pear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 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清辅音后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s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ok — books /bʊks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书  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up — cups /kʌps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杯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9" descr="book.gif"/>
          <p:cNvPicPr/>
          <p:nvPr/>
        </p:nvPicPr>
        <p:blipFill>
          <a:blip r:embed="rId2"/>
          <a:stretch/>
        </p:blipFill>
        <p:spPr>
          <a:xfrm>
            <a:off x="17640" y="1452600"/>
            <a:ext cx="108720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8"/>
          <p:cNvSpPr/>
          <p:nvPr/>
        </p:nvSpPr>
        <p:spPr>
          <a:xfrm>
            <a:off x="860400" y="1727280"/>
            <a:ext cx="762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浊辅音和元音后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z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d — beds /bedz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床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ur — hours / aʊə(r)z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，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use — houses / haʊzɪz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房子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rse — horses / hɔːsɪz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文本框 8" descr=""/>
          <p:cNvPicPr/>
          <p:nvPr/>
        </p:nvPicPr>
        <p:blipFill>
          <a:blip r:embed="rId1"/>
          <a:stretch/>
        </p:blipFill>
        <p:spPr>
          <a:xfrm>
            <a:off x="2227320" y="244440"/>
            <a:ext cx="4960800" cy="7142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819000" y="1346040"/>
            <a:ext cx="7742520" cy="42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nn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words have no s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1274760" y="263196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bo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4943520" y="2611440"/>
            <a:ext cx="26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b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1042920" y="1270080"/>
            <a:ext cx="2481480" cy="1244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4518000" y="1270080"/>
            <a:ext cx="2527200" cy="1252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4"/>
          <a:stretch/>
        </p:blipFill>
        <p:spPr>
          <a:xfrm>
            <a:off x="1030320" y="3218040"/>
            <a:ext cx="2504880" cy="126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5"/>
          <a:stretch/>
        </p:blipFill>
        <p:spPr>
          <a:xfrm>
            <a:off x="4575240" y="3218040"/>
            <a:ext cx="2489040" cy="1245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6"/>
          <a:stretch/>
        </p:blipFill>
        <p:spPr>
          <a:xfrm>
            <a:off x="7351560" y="4195800"/>
            <a:ext cx="1314720" cy="2124000"/>
          </a:xfrm>
          <a:prstGeom prst="rect">
            <a:avLst/>
          </a:prstGeom>
          <a:ln w="0">
            <a:noFill/>
          </a:ln>
        </p:spPr>
      </p:pic>
      <p:sp>
        <p:nvSpPr>
          <p:cNvPr id="129" name="矩形 21"/>
          <p:cNvSpPr/>
          <p:nvPr/>
        </p:nvSpPr>
        <p:spPr>
          <a:xfrm>
            <a:off x="906480" y="4551480"/>
            <a:ext cx="29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many box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4449600" y="4530600"/>
            <a:ext cx="29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three bu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3T11:55:38Z</dcterms:modified>
  <cp:revision>6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